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083-0E60-4733-BEA5-E96ECCBE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2E2-5844-49EB-8BB4-D8DFF93C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064-66DC-4730-9B5E-60027022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318-CC1E-48DB-9B4A-5EE6A804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B72-6895-4E3B-B2B8-D334554C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AC9-708F-447B-8DED-54A0A719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DBF-6ECB-442F-97C1-F94BBFF8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D15-C82E-412E-B75B-6A777D8B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111-488C-4691-80D6-B83D0171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ABD-4367-4E72-BB18-BFC351E8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FF1-27DC-4494-AC36-6C8105ED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E61-91B5-4F47-BDBB-9BB41A58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B243-637E-46C4-AC94-91593E222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251080" y="1971720"/>
            <a:ext cx="4892760" cy="321768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" descr=""/>
          <p:cNvPicPr/>
          <p:nvPr/>
        </p:nvPicPr>
        <p:blipFill>
          <a:blip r:embed="rId2"/>
          <a:stretch/>
        </p:blipFill>
        <p:spPr>
          <a:xfrm>
            <a:off x="2340000" y="1339920"/>
            <a:ext cx="4952880" cy="89208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95280" y="892800"/>
            <a:ext cx="820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、阅读理解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共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3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渡荆门送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　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渡远荆门外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从楚国游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山随平野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入大荒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月下飞天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生结海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仍怜故乡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里送行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2284200" y="940680"/>
            <a:ext cx="48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句“山随平野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入大荒流”给我们描绘了怎样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景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加以描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0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755640" y="2637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诗人乘舟顺江而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两岸连绵起伏的群山像画卷一样伴随小舟而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它们在广阔的原野处消失了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浩浩荡荡的长江水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奔涌向前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流入了广阔无际的原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他的视野顿时变得开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标注 5"/>
          <p:cNvSpPr/>
          <p:nvPr/>
        </p:nvSpPr>
        <p:spPr>
          <a:xfrm>
            <a:off x="755640" y="2492280"/>
            <a:ext cx="7848720" cy="2737080"/>
          </a:xfrm>
          <a:prstGeom prst="wedgeRoundRectCallout">
            <a:avLst>
              <a:gd name="adj1" fmla="val 657"/>
              <a:gd name="adj2" fmla="val -5734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900000" y="11260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味该诗尾联中“送”字的妙处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047320" y="2247840"/>
            <a:ext cx="5203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送”字直接点题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扣题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,“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送”的主体是故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山水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用拟人的修辞手法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生动而含蓄地表达了诗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故乡的依恋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标注 5"/>
          <p:cNvSpPr/>
          <p:nvPr/>
        </p:nvSpPr>
        <p:spPr>
          <a:xfrm>
            <a:off x="611280" y="2205000"/>
            <a:ext cx="8137440" cy="2376360"/>
          </a:xfrm>
          <a:prstGeom prst="wedgeRoundRectCallout">
            <a:avLst>
              <a:gd name="adj1" fmla="val -685"/>
              <a:gd name="adj2" fmla="val -6024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3309120" y="551520"/>
            <a:ext cx="20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福州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820880" y="1317960"/>
            <a:ext cx="58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甲】至于夏水襄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沿溯阻绝。或王命急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朝发白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暮到江陵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间千二百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乘奔御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以疾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冬之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素湍绿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清倒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绝巘多生怪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悬泉瀑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飞漱其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荣峻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多趣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527520" y="343008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选自郦道元《三峡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684360" y="3860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乙】浙江之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下之伟观也。自既望以至十八日为最盛。方其远出海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仅如银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而渐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玉城雪岭际天而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声如雷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震撼激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吞天沃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势极雄豪。杨诚斋诗云“海涌银为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江横玉系腰”者是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589440" y="559080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选自周密《观潮》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"/>
          <p:cNvSpPr/>
          <p:nvPr/>
        </p:nvSpPr>
        <p:spPr>
          <a:xfrm>
            <a:off x="2351880" y="572400"/>
            <a:ext cx="534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用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示下面语句的语意停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句标一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于夏水襄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既望以至十八日为最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释下列加点的词语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王命急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虽乘奔御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　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而渐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　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则玉城雪岭际天而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3132000" y="3284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时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飞奔的马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久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城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900000" y="234936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至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夏水襄陵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既望以至十八日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最盛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对角圆角矩形 6"/>
          <p:cNvSpPr/>
          <p:nvPr/>
        </p:nvSpPr>
        <p:spPr>
          <a:xfrm>
            <a:off x="900000" y="2276640"/>
            <a:ext cx="7704360" cy="576000"/>
          </a:xfrm>
          <a:custGeom>
            <a:avLst/>
            <a:gdLst/>
            <a:ahLst/>
            <a:rect l="l" t="t" r="r" b="b"/>
            <a:pathLst>
              <a:path w="7704856" h="576064">
                <a:moveTo>
                  <a:pt x="96012" y="0"/>
                </a:moveTo>
                <a:lnTo>
                  <a:pt x="7704856" y="0"/>
                </a:lnTo>
                <a:lnTo>
                  <a:pt x="7704856" y="0"/>
                </a:lnTo>
                <a:lnTo>
                  <a:pt x="7704856" y="480051"/>
                </a:lnTo>
                <a:cubicBezTo>
                  <a:pt x="7704856" y="533077"/>
                  <a:pt x="7661870" y="576063"/>
                  <a:pt x="7608844" y="576063"/>
                </a:cubicBezTo>
                <a:lnTo>
                  <a:pt x="0" y="576064"/>
                </a:lnTo>
                <a:lnTo>
                  <a:pt x="0" y="576064"/>
                </a:lnTo>
                <a:lnTo>
                  <a:pt x="0" y="96012"/>
                </a:lnTo>
                <a:cubicBezTo>
                  <a:pt x="0" y="42986"/>
                  <a:pt x="42986" y="0"/>
                  <a:pt x="9601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7"/>
          <p:cNvSpPr/>
          <p:nvPr/>
        </p:nvSpPr>
        <p:spPr>
          <a:xfrm>
            <a:off x="1476360" y="386064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8"/>
          <p:cNvSpPr/>
          <p:nvPr/>
        </p:nvSpPr>
        <p:spPr>
          <a:xfrm>
            <a:off x="2050920" y="4437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9"/>
          <p:cNvSpPr/>
          <p:nvPr/>
        </p:nvSpPr>
        <p:spPr>
          <a:xfrm>
            <a:off x="1547640" y="494172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3"/>
          <p:cNvSpPr/>
          <p:nvPr/>
        </p:nvSpPr>
        <p:spPr>
          <a:xfrm>
            <a:off x="2124000" y="5516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"/>
          <p:cNvSpPr/>
          <p:nvPr/>
        </p:nvSpPr>
        <p:spPr>
          <a:xfrm>
            <a:off x="2138040" y="672480"/>
            <a:ext cx="498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组语句中的加点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义相同的一项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沿溯阻绝　　　　往来而不绝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间千二百里　　又何间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其远出海门　　今齐地方千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湍绿潭　　      吴广素爱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468360" y="3716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前一个是“中间”的意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后一个是“参与”的意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C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前一个是“当……时”的意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后一个是“方圆”的意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;D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前一个是“白色”的意思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后一个是“向来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对角圆角矩形 5"/>
          <p:cNvSpPr/>
          <p:nvPr/>
        </p:nvSpPr>
        <p:spPr>
          <a:xfrm>
            <a:off x="395280" y="3645000"/>
            <a:ext cx="8209080" cy="2376360"/>
          </a:xfrm>
          <a:custGeom>
            <a:avLst/>
            <a:gdLst/>
            <a:ahLst/>
            <a:rect l="l" t="t" r="r" b="b"/>
            <a:pathLst>
              <a:path w="8208912" h="2376264">
                <a:moveTo>
                  <a:pt x="396051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1980212"/>
                </a:lnTo>
                <a:cubicBezTo>
                  <a:pt x="8208912" y="2198945"/>
                  <a:pt x="8031594" y="2376263"/>
                  <a:pt x="7812861" y="2376263"/>
                </a:cubicBezTo>
                <a:lnTo>
                  <a:pt x="0" y="2376264"/>
                </a:lnTo>
                <a:lnTo>
                  <a:pt x="0" y="2376264"/>
                </a:lnTo>
                <a:lnTo>
                  <a:pt x="0" y="396051"/>
                </a:lnTo>
                <a:cubicBezTo>
                  <a:pt x="0" y="177318"/>
                  <a:pt x="177318" y="0"/>
                  <a:pt x="39605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7896600" y="8366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7"/>
          <p:cNvSpPr/>
          <p:nvPr/>
        </p:nvSpPr>
        <p:spPr>
          <a:xfrm>
            <a:off x="1908000" y="177336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8"/>
          <p:cNvSpPr/>
          <p:nvPr/>
        </p:nvSpPr>
        <p:spPr>
          <a:xfrm>
            <a:off x="4643280" y="170028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9"/>
          <p:cNvSpPr/>
          <p:nvPr/>
        </p:nvSpPr>
        <p:spPr>
          <a:xfrm>
            <a:off x="1332000" y="2276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4067280" y="2276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971640" y="3429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2"/>
          <p:cNvSpPr/>
          <p:nvPr/>
        </p:nvSpPr>
        <p:spPr>
          <a:xfrm>
            <a:off x="3995640" y="3357720"/>
            <a:ext cx="144720" cy="14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3"/>
          <p:cNvSpPr/>
          <p:nvPr/>
        </p:nvSpPr>
        <p:spPr>
          <a:xfrm>
            <a:off x="4284720" y="285264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4"/>
          <p:cNvSpPr/>
          <p:nvPr/>
        </p:nvSpPr>
        <p:spPr>
          <a:xfrm>
            <a:off x="971640" y="2924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2757960" y="1027080"/>
            <a:ext cx="2181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现代汉语翻译下列句子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荣峻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多趣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浙江之潮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下之伟观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971640" y="256536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清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树荣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茂盛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)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高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草盛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真是趣味无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钱塘江潮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是天下雄伟的景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标注 5"/>
          <p:cNvSpPr/>
          <p:nvPr/>
        </p:nvSpPr>
        <p:spPr>
          <a:xfrm>
            <a:off x="900000" y="2349360"/>
            <a:ext cx="7344000" cy="792360"/>
          </a:xfrm>
          <a:prstGeom prst="wedgeRoundRectCallout">
            <a:avLst>
              <a:gd name="adj1" fmla="val -7740"/>
              <a:gd name="adj2" fmla="val -6090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标注 6"/>
          <p:cNvSpPr/>
          <p:nvPr/>
        </p:nvSpPr>
        <p:spPr>
          <a:xfrm>
            <a:off x="900000" y="3716280"/>
            <a:ext cx="7488360" cy="792360"/>
          </a:xfrm>
          <a:prstGeom prst="wedgeRoundRectCallout">
            <a:avLst>
              <a:gd name="adj1" fmla="val 10324"/>
              <a:gd name="adj2" fmla="val -8024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39" name="矩形 2"/>
          <p:cNvSpPr/>
          <p:nvPr/>
        </p:nvSpPr>
        <p:spPr>
          <a:xfrm>
            <a:off x="1042920" y="1052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甲段描写三峡的夏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、侧面描写相结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出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特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描写春冬之水则紧扣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特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“素湍”“回清”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的动态之美映衬“绿潭”的静态之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静相映成趣。乙段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色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面进行正面描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远及近地写出了钱塘江潮雄奇壮观的景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2195640" y="328572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　            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势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1867680" y="162864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势大　  水流急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清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746400" y="22050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悬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飞漱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对角圆角矩形 7"/>
          <p:cNvSpPr/>
          <p:nvPr/>
        </p:nvSpPr>
        <p:spPr>
          <a:xfrm>
            <a:off x="611280" y="836640"/>
            <a:ext cx="8137440" cy="4105080"/>
          </a:xfrm>
          <a:custGeom>
            <a:avLst/>
            <a:gdLst/>
            <a:ahLst/>
            <a:rect l="l" t="t" r="r" b="b"/>
            <a:pathLst>
              <a:path w="8136904" h="4104456">
                <a:moveTo>
                  <a:pt x="684089" y="0"/>
                </a:moveTo>
                <a:lnTo>
                  <a:pt x="8136904" y="0"/>
                </a:lnTo>
                <a:lnTo>
                  <a:pt x="8136904" y="0"/>
                </a:lnTo>
                <a:lnTo>
                  <a:pt x="8136904" y="3420366"/>
                </a:lnTo>
                <a:cubicBezTo>
                  <a:pt x="8136904" y="3798178"/>
                  <a:pt x="7830627" y="4104455"/>
                  <a:pt x="7452815" y="4104455"/>
                </a:cubicBezTo>
                <a:lnTo>
                  <a:pt x="0" y="4104456"/>
                </a:lnTo>
                <a:lnTo>
                  <a:pt x="0" y="4104456"/>
                </a:lnTo>
                <a:lnTo>
                  <a:pt x="0" y="684089"/>
                </a:lnTo>
                <a:cubicBezTo>
                  <a:pt x="0" y="306277"/>
                  <a:pt x="306277" y="0"/>
                  <a:pt x="684089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45" name="矩形 3"/>
          <p:cNvSpPr/>
          <p:nvPr/>
        </p:nvSpPr>
        <p:spPr>
          <a:xfrm>
            <a:off x="250920" y="981000"/>
            <a:ext cx="86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大林寺　　白居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015·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江西中考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余与河南元集虚、范阳张允中……凡十七人。自遗爱草堂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历东西二林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抵化成、憩峰顶。登香炉峰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宿大林寺。大林穷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迹罕到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环寺多清流苍石、短松瘦竹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寺中唯板屋木器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僧皆海东人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高地深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节绝晚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于时孟夏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正、二月天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桃始华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涧草犹短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物风候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平地聚落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。初到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恍然若别造一世界者。因口号绝句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间四月芳菲尽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寺桃花始盛开。长恨春归无觅处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知转入此中来。”既而周览屋壁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见萧郎中存、魏郎中弘简、李补阙渤三人姓名文句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与集虚辈叹且曰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地实匡庐间第一境。由驿路至山门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无半日程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萧、魏、李游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迨</a:t>
            </a:r>
            <a:r>
              <a:rPr b="0" lang="zh-CN" sz="2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垂二十年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寂寥无继来者。嗟乎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利之诱人也如此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2475360" y="887040"/>
            <a:ext cx="429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注】　①遗爱草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白居易贬江州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庐山遗爱寺自己建造的草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西二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东林寺、西林寺。后文“化成”指化成寺。③海东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罗国人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罗国地处朝鲜半岛。④聚落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村庄。⑤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i)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152440" y="2284920"/>
            <a:ext cx="372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下面句子朗读节奏的划分正确的一项是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地实匡庐间第一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实匡庐间第一境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匡庐间第一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地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匡庐间第一境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地实匡庐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境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539640" y="422100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以先理解这个句子的含义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然后根据句意划分停顿。此句意思为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此处实在是庐山第一胜境。一般来说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主谓之间应该有停顿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领起全句的语气词后应该有停顿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几个连动的成分之间也应该有停顿。这里主谓之间应该有停顿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应选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对角圆角矩形 6"/>
          <p:cNvSpPr/>
          <p:nvPr/>
        </p:nvSpPr>
        <p:spPr>
          <a:xfrm>
            <a:off x="468360" y="4149720"/>
            <a:ext cx="8280360" cy="1943280"/>
          </a:xfrm>
          <a:custGeom>
            <a:avLst/>
            <a:gdLst/>
            <a:ahLst/>
            <a:rect l="l" t="t" r="r" b="b"/>
            <a:pathLst>
              <a:path w="8280920" h="1944216">
                <a:moveTo>
                  <a:pt x="324042" y="0"/>
                </a:moveTo>
                <a:lnTo>
                  <a:pt x="8280920" y="0"/>
                </a:lnTo>
                <a:lnTo>
                  <a:pt x="8280920" y="0"/>
                </a:lnTo>
                <a:lnTo>
                  <a:pt x="8280920" y="1620173"/>
                </a:lnTo>
                <a:cubicBezTo>
                  <a:pt x="8280920" y="1799136"/>
                  <a:pt x="8135841" y="1944215"/>
                  <a:pt x="7956878" y="1944215"/>
                </a:cubicBezTo>
                <a:lnTo>
                  <a:pt x="0" y="1944216"/>
                </a:lnTo>
                <a:lnTo>
                  <a:pt x="0" y="1944216"/>
                </a:lnTo>
                <a:lnTo>
                  <a:pt x="0" y="324042"/>
                </a:lnTo>
                <a:cubicBezTo>
                  <a:pt x="0" y="145079"/>
                  <a:pt x="145079" y="0"/>
                  <a:pt x="32404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6593040" y="23493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1947600" y="853560"/>
            <a:ext cx="4738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一、积累与运用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词语中加点字注音全对的一项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属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hǔ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     乘骑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jì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gēng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沿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毳衣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uì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泅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qi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飞漱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ù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   荒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huì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雾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ōng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燕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藻荇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ìng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绝山献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艨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hōng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一舸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g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t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曦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6959520" y="1484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7"/>
          <p:cNvSpPr/>
          <p:nvPr/>
        </p:nvSpPr>
        <p:spPr>
          <a:xfrm>
            <a:off x="1547640" y="2421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356000" y="2421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1332000" y="2997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4284720" y="2997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1"/>
          <p:cNvSpPr/>
          <p:nvPr/>
        </p:nvSpPr>
        <p:spPr>
          <a:xfrm>
            <a:off x="1258920" y="3500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2"/>
          <p:cNvSpPr/>
          <p:nvPr/>
        </p:nvSpPr>
        <p:spPr>
          <a:xfrm>
            <a:off x="4140360" y="3500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3"/>
          <p:cNvSpPr/>
          <p:nvPr/>
        </p:nvSpPr>
        <p:spPr>
          <a:xfrm>
            <a:off x="1619280" y="4076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4"/>
          <p:cNvSpPr/>
          <p:nvPr/>
        </p:nvSpPr>
        <p:spPr>
          <a:xfrm>
            <a:off x="4356000" y="407664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5"/>
          <p:cNvSpPr/>
          <p:nvPr/>
        </p:nvSpPr>
        <p:spPr>
          <a:xfrm>
            <a:off x="1547640" y="4653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6"/>
          <p:cNvSpPr/>
          <p:nvPr/>
        </p:nvSpPr>
        <p:spPr>
          <a:xfrm>
            <a:off x="4140360" y="4653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7"/>
          <p:cNvSpPr/>
          <p:nvPr/>
        </p:nvSpPr>
        <p:spPr>
          <a:xfrm>
            <a:off x="1619280" y="5157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8"/>
          <p:cNvSpPr/>
          <p:nvPr/>
        </p:nvSpPr>
        <p:spPr>
          <a:xfrm>
            <a:off x="4572000" y="5229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9"/>
          <p:cNvSpPr/>
          <p:nvPr/>
        </p:nvSpPr>
        <p:spPr>
          <a:xfrm>
            <a:off x="1619280" y="5732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0"/>
          <p:cNvSpPr/>
          <p:nvPr/>
        </p:nvSpPr>
        <p:spPr>
          <a:xfrm>
            <a:off x="4427640" y="5732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1"/>
          <p:cNvSpPr/>
          <p:nvPr/>
        </p:nvSpPr>
        <p:spPr>
          <a:xfrm>
            <a:off x="1763640" y="6308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2"/>
          <p:cNvSpPr/>
          <p:nvPr/>
        </p:nvSpPr>
        <p:spPr>
          <a:xfrm>
            <a:off x="4067280" y="6237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对角圆角矩形 23"/>
          <p:cNvSpPr/>
          <p:nvPr/>
        </p:nvSpPr>
        <p:spPr>
          <a:xfrm>
            <a:off x="539640" y="836640"/>
            <a:ext cx="7488360" cy="5545080"/>
          </a:xfrm>
          <a:custGeom>
            <a:avLst/>
            <a:gdLst/>
            <a:ahLst/>
            <a:rect l="l" t="t" r="r" b="b"/>
            <a:pathLst>
              <a:path w="7488832" h="5544616">
                <a:moveTo>
                  <a:pt x="924121" y="0"/>
                </a:moveTo>
                <a:lnTo>
                  <a:pt x="7488832" y="0"/>
                </a:lnTo>
                <a:lnTo>
                  <a:pt x="7488832" y="0"/>
                </a:lnTo>
                <a:lnTo>
                  <a:pt x="7488832" y="4620494"/>
                </a:lnTo>
                <a:cubicBezTo>
                  <a:pt x="7488832" y="5130872"/>
                  <a:pt x="7075089" y="5544615"/>
                  <a:pt x="6564711" y="5544615"/>
                </a:cubicBezTo>
                <a:lnTo>
                  <a:pt x="0" y="5544616"/>
                </a:lnTo>
                <a:lnTo>
                  <a:pt x="0" y="5544616"/>
                </a:lnTo>
                <a:lnTo>
                  <a:pt x="0" y="924121"/>
                </a:lnTo>
                <a:cubicBezTo>
                  <a:pt x="0" y="413743"/>
                  <a:pt x="413743" y="0"/>
                  <a:pt x="924121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895320" y="789480"/>
            <a:ext cx="8669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释下列词语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　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造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2518920" y="1557360"/>
            <a:ext cx="45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开花　                      到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或“往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684360" y="2280600"/>
            <a:ext cx="9036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译文中画线句子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寺多清流苍石、短松瘦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"/>
          <p:cNvSpPr/>
          <p:nvPr/>
        </p:nvSpPr>
        <p:spPr>
          <a:xfrm>
            <a:off x="755640" y="386064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寺院周围多是清澈的溪流、苍苍的岩石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矮小的松树、清瘦的竹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标注 6"/>
          <p:cNvSpPr/>
          <p:nvPr/>
        </p:nvSpPr>
        <p:spPr>
          <a:xfrm>
            <a:off x="684360" y="3860640"/>
            <a:ext cx="8135640" cy="1440000"/>
          </a:xfrm>
          <a:prstGeom prst="wedgeRoundRectCallout">
            <a:avLst>
              <a:gd name="adj1" fmla="val -6495"/>
              <a:gd name="adj2" fmla="val -6010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1042920" y="105876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自己的话说说白居易一行游大林寺的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踪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755640" y="2924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白居易一行从遗爱草堂出发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经过了东林、西林二寺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到达化城寺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峰顶上稍事休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便登上香炉峰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住在大林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本题考查分析理解文章内容的能力。熟读文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梳通文意的基础上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找出作者等一行人的行踪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抓住关键语句进行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标注 5"/>
          <p:cNvSpPr/>
          <p:nvPr/>
        </p:nvSpPr>
        <p:spPr>
          <a:xfrm>
            <a:off x="755640" y="2708280"/>
            <a:ext cx="7777080" cy="3241800"/>
          </a:xfrm>
          <a:prstGeom prst="wedgeRoundRectCallout">
            <a:avLst>
              <a:gd name="adj1" fmla="val -6643"/>
              <a:gd name="adj2" fmla="val -5748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对角圆角矩形 6"/>
          <p:cNvSpPr/>
          <p:nvPr/>
        </p:nvSpPr>
        <p:spPr>
          <a:xfrm>
            <a:off x="755640" y="1052640"/>
            <a:ext cx="7777080" cy="1296720"/>
          </a:xfrm>
          <a:custGeom>
            <a:avLst/>
            <a:gdLst/>
            <a:ahLst/>
            <a:rect l="l" t="t" r="r" b="b"/>
            <a:pathLst>
              <a:path w="7776864" h="1296144">
                <a:moveTo>
                  <a:pt x="216028" y="0"/>
                </a:moveTo>
                <a:lnTo>
                  <a:pt x="7776864" y="0"/>
                </a:lnTo>
                <a:lnTo>
                  <a:pt x="7776864" y="0"/>
                </a:lnTo>
                <a:lnTo>
                  <a:pt x="7776864" y="1080115"/>
                </a:lnTo>
                <a:cubicBezTo>
                  <a:pt x="7776864" y="1199424"/>
                  <a:pt x="7680145" y="1296143"/>
                  <a:pt x="7560836" y="1296143"/>
                </a:cubicBezTo>
                <a:lnTo>
                  <a:pt x="0" y="1296144"/>
                </a:lnTo>
                <a:lnTo>
                  <a:pt x="0" y="1296144"/>
                </a:lnTo>
                <a:lnTo>
                  <a:pt x="0" y="216028"/>
                </a:lnTo>
                <a:cubicBezTo>
                  <a:pt x="0" y="96719"/>
                  <a:pt x="96719" y="0"/>
                  <a:pt x="21602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"/>
          <p:cNvSpPr/>
          <p:nvPr/>
        </p:nvSpPr>
        <p:spPr>
          <a:xfrm>
            <a:off x="1805040" y="843840"/>
            <a:ext cx="5436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林寺景色优美却游人甚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原因是什么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文中语句回答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2000" y="2466720"/>
            <a:ext cx="5203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大林穷远。　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名利之诱人也如此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题考查分析理解文章内容的能力。熟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章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梳通文意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根据对现代汉语的理解找出描写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少的原因的句子。注意是两个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标注 5"/>
          <p:cNvSpPr/>
          <p:nvPr/>
        </p:nvSpPr>
        <p:spPr>
          <a:xfrm>
            <a:off x="611280" y="2276640"/>
            <a:ext cx="8137440" cy="3313080"/>
          </a:xfrm>
          <a:prstGeom prst="wedgeRoundRectCallout">
            <a:avLst>
              <a:gd name="adj1" fmla="val 865"/>
              <a:gd name="adj2" fmla="val -53634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744560" y="787320"/>
            <a:ext cx="5687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参考译文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　    我同河南府元集虚、范阳张允中等共十人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从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草堂出发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经过庐山西北麓的东林寺和西林寺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来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化城寺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讲经台峰顶休息后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登上香炉峰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投宿于大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寺。大林寺十分偏僻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迹罕至。寺的周围溪水清澈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岩石苍黑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青松矮短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翠竹修长。寺里只有木制的房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和器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寺僧都是海东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2071800" y="977760"/>
            <a:ext cx="50320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这里山势高峻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地形深幽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因而季节变换非常缓慢。在这里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初夏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节却如山外的正月二月天气。山中桃树刚刚开花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山涧绿草还很短浅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事景致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风情物候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跟寺外的平地村落一点不同。刚到这里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就如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来到了另一个神奇世界。于是随口吟出绝句一首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人间四月芳菲尽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山寺桃花始盛开。长恨春归无觅处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知转入此中来。不久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顾大林寺的屋壁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见屋壁上有萧存、魏弘简、李渤三人题写的诗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为此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和元集虚等人无不感叹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并说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:“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处实为庐山第一胜境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从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通大道走到僻远的大林寺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还不到半天的路程。从萧、魏、李这三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游览大林寺后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到现在将近二十年了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冷落萧条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再没有知名人士承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他们游览题诗的雅事了。唉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功名利禄对人们的诱惑竟然到了这种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步啊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1749960" y="763560"/>
            <a:ext cx="5640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、写作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50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分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阅读下面的文字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然后按要求作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菊东篱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悠然见南山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陶渊明的“闲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调素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刘禹锡的“闲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色入户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欣然起行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夜游承天寺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苏轼的“闲”……闲中有愉悦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闲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悠然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豁达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淡泊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月星辰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林湖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花鸟虫鱼……琴茗书画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吟咏歌舞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静思遐想……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野村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家灯火……皆为“风光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体悟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千种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以“闲对风光独自游”为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一篇文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意自定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体自选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②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少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③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迹工整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卷面整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④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出现真实的人名、地名和校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1185480" y="766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【写作导航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735200" y="1259280"/>
            <a:ext cx="5839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审提示语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示语隐含着命题者的意图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切不可把它当作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要从中提取作文的有效信息。文段一中列举的陶渊明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刘禹锡、苏轼三人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有着共同特征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有报国宏愿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才高八斗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怀才不遇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或屡遭贬谪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但生活情趣高雅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品性高洁。面对自然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面对生活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他们或闲适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或悠然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或豁达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或淡泊……故题目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闲”意尽出。文段二中对“风光”的列举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大致可分为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类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是自然风光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是人文风光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是志趣爱好方面的风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示语中的省略号也不容忽视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里面有可供挖掘的、写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又不会撞车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1998360" y="1576440"/>
            <a:ext cx="5292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抓关键词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: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题目的中心语是“游”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有两个修饰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制语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是“独自”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强调自我在风光中的陶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;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闲对风光”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“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闲”对游的心态作了限制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“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风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游的对象作了要求和规定。至此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文题可简单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理解为“闲暇时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某某闲适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或‘悠然’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地沉浸于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种风光之中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得其乐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692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900000" y="1460520"/>
            <a:ext cx="7344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句不是对偶句的一项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漠孤烟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河落日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朝辞白帝彩云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里江陵一日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下飞天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云生结海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重水复疑无路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柳暗花明又一村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7048440" y="1557360"/>
            <a:ext cx="9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2390040" y="1033200"/>
            <a:ext cx="494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默写填空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归园田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的主旨句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 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湖心亭看雪》中描写夜色下雪景的语句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记承天寺夜游》中对月色加以描写的语句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879520" y="1629720"/>
            <a:ext cx="22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衣沾不足惜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但使愿无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26920" y="206496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雾凇沆砀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天与云与山与水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上下一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826920" y="4005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庭下如积水空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中藻、荇交横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盖竹柏影也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8"/>
          <p:cNvSpPr/>
          <p:nvPr/>
        </p:nvSpPr>
        <p:spPr>
          <a:xfrm flipV="1">
            <a:off x="900000" y="4508640"/>
            <a:ext cx="6696360" cy="7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1990800" y="824760"/>
            <a:ext cx="530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北京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准备组织同学们去博物馆参观。下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某博物馆参观须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以班长的身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据“参观须知”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学们提出要求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“既……又……”的句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4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                  博物馆参观须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观时请勿大声喧哗、追跑打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设置为静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免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人参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护馆内展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勿触摸、拍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免损坏展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719280" y="5373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希望同学们在参观过程中既要保持安静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又要保护馆内展品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对角圆角矩形 5"/>
          <p:cNvSpPr/>
          <p:nvPr/>
        </p:nvSpPr>
        <p:spPr>
          <a:xfrm>
            <a:off x="539640" y="5229360"/>
            <a:ext cx="8064720" cy="863640"/>
          </a:xfrm>
          <a:custGeom>
            <a:avLst/>
            <a:gdLst/>
            <a:ahLst/>
            <a:rect l="l" t="t" r="r" b="b"/>
            <a:pathLst>
              <a:path w="8064896" h="864096">
                <a:moveTo>
                  <a:pt x="144018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720077"/>
                </a:lnTo>
                <a:cubicBezTo>
                  <a:pt x="8064896" y="799616"/>
                  <a:pt x="8000417" y="864095"/>
                  <a:pt x="7920878" y="864095"/>
                </a:cubicBezTo>
                <a:lnTo>
                  <a:pt x="0" y="864096"/>
                </a:lnTo>
                <a:lnTo>
                  <a:pt x="0" y="864096"/>
                </a:lnTo>
                <a:lnTo>
                  <a:pt x="0" y="144018"/>
                </a:lnTo>
                <a:cubicBezTo>
                  <a:pt x="0" y="64479"/>
                  <a:pt x="64479" y="0"/>
                  <a:pt x="14401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1304280" y="857160"/>
            <a:ext cx="655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咸宁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著导读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蜚声中外的苏联小说《钢铁是怎样炼成的》被誉为“理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义的旗帜与人生的教科书”。该书的作者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作品最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成功之处在于塑造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无产阶级英雄形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了那个时代最美好的精神品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说的主人公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问题作出了响亮的回答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7052400" y="2060640"/>
            <a:ext cx="8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尼古拉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611280" y="2565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奥斯特洛夫斯基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“奥斯特洛夫斯基”也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3780000" y="31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保尔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柯察金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答“保尔”也可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539640" y="400536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应该怎样度过一生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的一生应该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样度过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2182320" y="855720"/>
            <a:ext cx="48362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各项作品、作者与朝代搭配有误的一项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三峡》——郦道元——北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观潮》——周密——宋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渡荆门送别》——王维——唐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归园田居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——陶渊明——晋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>
            <a:off x="539640" y="50846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渡荆门送别》的作者应为李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同侧圆角矩形 5"/>
          <p:cNvSpPr/>
          <p:nvPr/>
        </p:nvSpPr>
        <p:spPr>
          <a:xfrm>
            <a:off x="684360" y="4869000"/>
            <a:ext cx="7704000" cy="936360"/>
          </a:xfrm>
          <a:custGeom>
            <a:avLst/>
            <a:gdLst/>
            <a:ahLst/>
            <a:rect l="l" t="t" r="r" b="b"/>
            <a:pathLst>
              <a:path w="7704856" h="936104">
                <a:moveTo>
                  <a:pt x="156020" y="0"/>
                </a:moveTo>
                <a:lnTo>
                  <a:pt x="7548835" y="0"/>
                </a:lnTo>
                <a:cubicBezTo>
                  <a:pt x="7635002" y="0"/>
                  <a:pt x="7704855" y="69853"/>
                  <a:pt x="7704855" y="156020"/>
                </a:cubicBezTo>
                <a:lnTo>
                  <a:pt x="7704856" y="936104"/>
                </a:lnTo>
                <a:lnTo>
                  <a:pt x="7704856" y="936104"/>
                </a:lnTo>
                <a:lnTo>
                  <a:pt x="0" y="936104"/>
                </a:lnTo>
                <a:lnTo>
                  <a:pt x="0" y="936104"/>
                </a:lnTo>
                <a:lnTo>
                  <a:pt x="0" y="156020"/>
                </a:lnTo>
                <a:cubicBezTo>
                  <a:pt x="0" y="69853"/>
                  <a:pt x="69853" y="0"/>
                  <a:pt x="15602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2061360" y="1628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2250360" y="323280"/>
            <a:ext cx="4923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(2015·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十堰中考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性学习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过中华节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味传统民俗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宵观灯、端午吃粽子、中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赏月、重阳登高……多姿多彩的传统节日习俗内涵丰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浓郁的中华文化韵味。过好中国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是对中华文化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传承。请你按照要求完成下列题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任选一种中华传统节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重复例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照例句的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内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一个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粽香端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声声锣鼓赛龙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826920" y="5229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一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圆中秋　家家团聚吃月饼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例二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绿满清明　户户扫墓祭先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对角圆角矩形 5"/>
          <p:cNvSpPr/>
          <p:nvPr/>
        </p:nvSpPr>
        <p:spPr>
          <a:xfrm>
            <a:off x="755640" y="5300640"/>
            <a:ext cx="5184720" cy="1081080"/>
          </a:xfrm>
          <a:custGeom>
            <a:avLst/>
            <a:gdLst/>
            <a:ahLst/>
            <a:rect l="l" t="t" r="r" b="b"/>
            <a:pathLst>
              <a:path w="5184576" h="1080120">
                <a:moveTo>
                  <a:pt x="180023" y="0"/>
                </a:moveTo>
                <a:lnTo>
                  <a:pt x="5184576" y="0"/>
                </a:lnTo>
                <a:lnTo>
                  <a:pt x="5184576" y="0"/>
                </a:lnTo>
                <a:lnTo>
                  <a:pt x="5184576" y="900096"/>
                </a:lnTo>
                <a:cubicBezTo>
                  <a:pt x="5184576" y="999520"/>
                  <a:pt x="5103977" y="1080119"/>
                  <a:pt x="5004553" y="1080119"/>
                </a:cubicBezTo>
                <a:lnTo>
                  <a:pt x="0" y="1080120"/>
                </a:lnTo>
                <a:lnTo>
                  <a:pt x="0" y="1080120"/>
                </a:lnTo>
                <a:lnTo>
                  <a:pt x="0" y="180023"/>
                </a:lnTo>
                <a:cubicBezTo>
                  <a:pt x="0" y="80599"/>
                  <a:pt x="80599" y="0"/>
                  <a:pt x="18002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zpj.jpg" descr=""/>
          <p:cNvPicPr/>
          <p:nvPr/>
        </p:nvPicPr>
        <p:blipFill>
          <a:blip r:embed="rId1"/>
          <a:stretch/>
        </p:blipFill>
        <p:spPr>
          <a:xfrm>
            <a:off x="2771640" y="0"/>
            <a:ext cx="339912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1736280" y="1030320"/>
            <a:ext cx="566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端午节的中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人团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热热闹闹地过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是弟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一直低头玩着手机。爸爸妈妈批评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却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都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起吃粽子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什么意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不如玩手机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想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左右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5280" y="3369960"/>
            <a:ext cx="8418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家人在一起过节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融洽了亲情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拉近了距离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爸爸妈妈多想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你聊聊天啊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要再玩手机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题考查口语表述。回答时要有针对性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围绕主题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话题表述。不能用命令的口吻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语气委婉得体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劝诫和节日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聚、亲情关联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符合字数要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标注 5"/>
          <p:cNvSpPr/>
          <p:nvPr/>
        </p:nvSpPr>
        <p:spPr>
          <a:xfrm>
            <a:off x="324000" y="3429000"/>
            <a:ext cx="8280360" cy="2736720"/>
          </a:xfrm>
          <a:prstGeom prst="wedgeRoundRectCallout">
            <a:avLst>
              <a:gd name="adj1" fmla="val -273"/>
              <a:gd name="adj2" fmla="val -5662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